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92E-967C-4358-AF29-0D88EBA7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459-4F35-48F2-9BDF-CCDCEC05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FABC7-2E78-489A-81E1-F7D3FD0B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1F473-1BAD-43B6-AF93-432D80A8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82A35-653A-4E7C-9FB3-DECE9FF5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3DA82-EB0B-40A6-82E3-4D736F11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B7DB1-C24E-4D81-B1A9-38F18400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6001E-BCDE-4B8E-AC6B-19B6505F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46570-1073-4B42-8ED9-A21A66AC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D9CD0-33C6-4927-823E-CF7124A3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E8854-E3D8-4094-8B11-6AA99C6F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E5AAB-526E-4557-92E4-42B6941D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346-5BE9-4AD8-B30C-37FDEBF6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6D6CB-B45A-45AE-B746-CEE59D51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3B1D5-617A-4174-8A20-12B66C08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A44DE-7B35-4AC9-9D3E-DB1F6F4B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45C2D-AB47-4562-81EA-70678867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A0C0D-D39A-46AC-B255-E669A237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3AE2A-5EC5-4BB1-9CDB-7BCB0C73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E23EE-6891-4449-A717-6A25674F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CEC69-6DEF-4256-B15A-A578FEE8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B1C44-4163-4F69-B813-6BCBD37A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C98D1-72CB-49A0-A963-1E5DFD27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95C-9841-4F7C-8A61-DDE2F223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AB7C8-A5E5-4876-8ACF-AA724546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8FECE-3B90-4C14-9E76-CF3106FB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D82CA-BCB8-4896-AB93-F99B79AF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C84C2-0561-4927-9C95-6E3098CE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94D2C-478B-44AB-94E3-8E9B48B8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51020-EAEF-4DF4-97CE-D64FABCD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B0B67-E0E5-47D2-AB38-A97EF0A3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3A5B1-66D2-4893-BD41-3D60DE64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D07B6-E980-499B-A70B-8EDF474D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C8E27-EA6A-4198-9E52-6493D9DA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2E2E-DD7E-4217-9A0D-26B22C78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E7658-2B44-4CE6-BA55-1C7B2C6B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63D3B-0DDE-422F-8AFB-FE5C110C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BB0EC-2431-4497-B5F0-6B535080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CAA53-1A17-4984-9580-5A05B181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A8373-01C8-4AC3-8DC7-AB2AFE0C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FF991-5C0E-4348-943B-DB73AA55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007E1-9E0E-4303-99FA-F36ABF2F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4B278-7AC9-404D-AD00-929C9CC1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95BD6-8978-401A-866B-9100714F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C93DD-62B1-4B0F-8A11-43231085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8A13-1BB1-4C48-8BD6-8961A005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E61F4-E473-4564-BC83-0F7F1D35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6DED2-B6CB-4FB4-BAA5-53404419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4AEBC-B4AD-4EE5-952C-41FF42FF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CAD56-1722-4701-986C-89E89AAC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953C2-4901-4FBD-B093-EC96CD97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9AD03-83EE-453C-990E-52979CA4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94BD9-5C71-45DA-9D22-3F45CD1E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5A537-4778-49B8-86DB-7E02E8D2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D2D0D-7386-4CA0-A73C-3E3F7F2E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E56D8-1C0F-403E-89C4-9527EEF2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69B7-2399-4BF2-99DE-772A4A90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970E8-DD71-41EF-960F-075F33D4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95CB1-EEF0-4C79-9524-DB1EDCBC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D7F82-F688-4782-A124-6C39DB28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D98B5-9D19-4579-A5C5-4AF11EC1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92C4A-43C1-4A12-9BA3-467FE422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1B9D7-D845-4DCB-85FB-8A602681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44DCB-A552-4081-997E-E6937571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84E9A-9EC1-4AF4-91D8-234220E2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FC7610-186E-414E-97A8-37967B52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CFE81-7A8D-42AB-A20E-40CB2A18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09DC-6D7E-470E-BA5D-36A9DF18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D3DBB-31C8-47F9-999B-0E4A46D5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28C6C9-ED02-4E6D-9544-1203C862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D5CA0-37E4-47BB-87BB-B74AFAC6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F4543E-3C7B-4B9C-BFC0-B2A40F91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3EB48-C107-4F10-8610-6F351F13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B9CC2-8E7B-411A-9443-C46FBA93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DD09F-9E80-415A-AD2F-8356BDF7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AA9B3-6EE6-4480-B505-A286CD8E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9646F-4CA6-470A-BCA4-D71A1A0F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A25C4-51B4-4E03-AD66-93F35D55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6A28-43E6-4C6A-9E4F-B5CE5004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6FC35-240A-4984-863B-F4A00CD2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4361E1-873B-4231-9E7F-89AB123C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618261-C99E-46A0-A4B7-F8B97733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DC9CBE-EE5B-4C48-A5AF-17734B44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3FA2BD-3EFC-49ED-B426-4454FA43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DB71D-5875-4FDB-B3C6-FD385970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124EB7-CB20-4A66-BC98-17C2729F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012ECF-CB75-4718-99DE-CC0CCA79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E6E0E1-F053-4932-8D07-835C44A7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04B539-D719-4B00-B993-F5521569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58E0-65EF-487F-A940-12844592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B2B7C-4062-4FFE-ABE6-BF860FBA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804BC6-48FA-472E-8663-96018CFD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BE4461-394E-435E-89CA-1E712DE3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FA6A4-64DF-45A2-901F-554BAAEC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0E517-0216-42A0-87C3-8AFB3E41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A8045-57E9-4BB1-96FE-6C5F8743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E7A53B-74B6-4C2B-B5DF-896F1749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9E7C9F-C098-4E2A-8375-A2DF4ED8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F0A8B-F2F0-413C-993E-45B29130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C8FA3B-E703-4896-87B9-463AAEC6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ABB5-C2A3-420B-BB2A-6F4758C4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66C6D6-0BDD-405E-B15A-290F9960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DB690-C78F-48B9-989C-55AFCC67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59D216-0482-42CB-8C8F-87CA87C9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1E7097-3B6F-44A4-B0F0-C8F06E6F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05D594-C9D7-4887-A0BA-9326DABD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2ACD17-A429-4EFC-8BD2-400440A1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98A01B-A766-411E-ACB8-15BC3249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3DFC5-6E11-4E33-8066-DEDD122C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84BC19-D460-4810-9C8D-D075301C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C4CB4-9470-4C3A-9DA6-98595101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547-3199-442D-A090-60B1ABD8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15A9-2690-4090-8159-154E6F93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695352-827B-4E9A-9B61-BA21AF58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B2DF3E-1ACC-453D-BAD4-1AD79477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986D85-2E66-45C7-9CA3-BFA797CF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C21E37-26C6-40F9-9E69-66C4A874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39BBAC-DEFD-4475-ABEB-82182FE8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6DC4E9-01A9-4EB7-9891-D0F2A031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370D1-AE97-4140-AC5B-241726AD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C02D65-B0CE-499D-BEAD-F62CA949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7FB0E3-40EE-4798-BA5E-78DD9A6C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D77E23-AA6E-40DD-82A0-1B83A3EB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DC53-310A-4212-99CC-1767125B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BDC84D-63A7-4844-B610-04DAB95D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D7C7F2-28A3-4D27-84B3-CAC00339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0D022F-9327-4E2A-B46F-50C05141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525B0D-1EC9-4567-BE9B-0DB341DE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F88F25-3F51-47F1-B8B1-1225FC12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2E8DB-64F9-4C63-A6D6-DCC88693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1F6A9E-F180-4E12-802D-CC22B617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8E1557-A0AF-498B-9494-28ADE614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45B412-490C-4C08-BBEE-24A46614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C178EB-9276-462B-BF37-3E9DF287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4F86-DBD8-468B-AA2B-66226DC0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C1A635-A3CC-4A26-A23C-DC32EE39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03275C-BE5F-499F-AC34-D05DA2C9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B71D15-F5A3-4A20-ACBC-20DCBBFB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A40F5-E3D3-4A03-A959-3841DE2D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F04467-579A-4FD7-B47D-042E1906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A18251-0B8F-4984-A8FF-8C30ACFF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76B6CF-050F-45EF-9ED8-9C80FE73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D96218-9144-4BAC-8DBB-6518019C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DC7137-6654-4B8F-A94E-1667BBA3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78842F-1BE0-4BEE-8FDA-93B41ECA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B211-CA4B-4FAA-B9C2-0E61A963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701904-975C-4991-98BE-D7411386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AE4514-3DD1-403B-828C-A8853A75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5ADE00-5A40-4C80-ADFF-5E2A8D0F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DCE8A0-5F9F-4A34-B40F-4739A867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A8902E-B501-46CC-A70B-C04F6AAD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184BC-C0F4-4B5B-8090-2D3ACE92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7E9351-53D6-48E4-94D7-CF24191E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CA62D3-7F23-40E7-AD5D-4061E3B4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B2FDAB-ECB9-402B-A30F-D4C6FED2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DEF82B-626C-4DE7-A359-43535DE8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2D9A-F56C-487A-A255-7D98DF97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B21D51-35FD-47C8-B3F8-13DE49F3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71E49-1590-4D45-9AFC-F7C07DE7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D0885E-AA50-4E0E-8E39-42B57CA7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4B14CF-18D1-49D3-9751-34DB25A2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098312-BAA6-426A-8609-8242193A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7C9C42-A21B-4430-B9BD-49F39202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E7E93C-9E7F-4C80-8727-7C0D630B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D67B39-E404-4767-8B63-F1DABA04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CBA92C-0EB6-4672-8569-2708CE7E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DBECD5-F603-4DFD-A65D-9EABA275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4BE3-F807-410B-97EA-2C8B2E36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E37E4B-B5BB-45E2-B15F-B9E18769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309B18-42AA-446C-9E11-F618032C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DF0E96-4124-44D6-82EB-5EC90626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D3392E-C21D-4D98-9EFD-1E2E074B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80AC6C-EAEF-4B7A-A8E5-AD8BA1EA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40BB1F-CF9B-40D3-AB54-CFA2D095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301CB3-B640-43F4-BE64-F38B5C17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DAA636-A844-45DB-AEF9-2E68C943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E248C6-DEDD-4FAF-A2BD-9D415B65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8400F0-67DC-49AA-90DD-02FC195B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9A37F-E90D-48C6-8F86-3F232776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972F5E-A575-4B52-BDB6-49DBE340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FA4378-F51D-4284-9BE2-54D7D877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D62B78-048C-490E-A0D5-AF0E8380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DB0F74-D258-4D1D-B8E4-9CC94045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6BB7E6-C741-4990-811E-E56800C5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53624A-545B-48FC-9F19-B1938DBB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204733-FED6-4D35-893C-80BC57E6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D5CCB2-17A8-42C0-A2C6-D86330FD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84803B-1F05-44FC-BB0E-9113AEA7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52D02F-D19B-4AA9-98E2-DFB2CC45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9C5D-1DFF-4CDC-9210-6B5FA8C2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D8E1F7-F713-47D0-BD02-24842520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45834C-B982-44E0-AB81-BDD76260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9AE653-4198-4EAF-91E8-62DDE715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4D8840-81C5-4CFF-A829-546F77FB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0469AE-9350-475A-9EC2-89979C14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9A328C-B2C9-4160-B110-AA724A31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FFC9D2-B6FC-47CB-BF01-4FC63CEA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C4FD8-15CE-4977-8B0C-F0D60A4E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F8282-3397-494A-A3ED-A9EEDFE8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109-0A9C-4DBD-A7AE-063A59A2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0EB1C-D17C-4D9F-8A6D-04B41E8A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7847-B2AD-46B9-85AB-BF3C1E9C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1D5AB-1D24-44B6-9C3A-23920C4E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DD24-AD13-4677-BFC6-58A81C56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8DC7D-B0B0-49FB-8D13-55E93F16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708B-4ABF-42D7-9467-48D53367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6AE3-AF48-4C94-B5CD-3220392F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129C5-CAB4-4A01-BB10-CD834CB1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5F319-C7C3-4200-9C59-9EA1C986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FB5A8-001A-4933-AAB4-5867837A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751-9814-4759-86EE-406D19C0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3B7D7-9A64-4528-B628-C49AEA61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C04C0-58CF-42B3-A69E-521C23A4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C209B-8F33-40D9-B426-F02A05A0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B32C7-80DF-4C69-B359-D231570B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B27F9-698C-4DA4-8BB1-388967A0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09582-FBB1-4B8D-AFED-D0DFE39B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4C96D-0CC6-4EF6-B1DA-C90E86CA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8D616-E183-44A2-8B13-3219F569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8F0C5-3273-4469-A596-8CCCDCFA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D2EA7-337D-4E38-9D65-DDF208D5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382-1DC9-4F03-8BD9-A94855AF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DE44F-0E67-4145-AC96-92DFDDC5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09707-05F5-4F1D-95C9-9D2E4216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FFC54-F248-4F35-A0E9-7C3BEC2C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B8FF4-222E-41DF-900C-269BCB65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18B64-A6B4-4FA6-B073-51C05071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6FD63-C8E4-41FA-A231-BBB03863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59433-ADB4-4771-AB82-E0E9C600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7D86B-7D4C-4CE3-AF9C-38A6AA87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60C4F-E18C-4991-9029-D271ABE1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19EEC-94B8-427D-912A-433DB23F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81E-4BD5-4895-9936-F3FCA29E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D280C-7F74-4B70-AC55-C6499905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990AA-94C3-4E56-B073-CD5CD7AE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4B430-121C-41C1-9495-11E81A99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6764B-6DE4-42F2-8C12-BFBB2CEA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77A1A-4C18-4C2F-8EA9-AE9510CF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D0A86-A9DC-4B7B-A630-7F07E3D9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213F3-3C23-44B9-AB6C-5FFE3A69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0BDBB-03CF-489D-9CE1-FD46C27D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73F14-5026-4CB1-B57D-74882BEC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357A9-2802-45C4-9326-295C10F1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EF6-88C9-476E-9EB9-ECF6DB9C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1AAD2-025C-4211-B4CA-C7CD3200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F447D-818D-404A-BC3E-2FCD890C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74B34-D8FA-4AB1-BD6E-9E289E0A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B64E6-E37E-4DD9-8889-01ADAC15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517F3-2719-4E32-B858-95127549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0F029-700E-4EC8-A32B-D63C4216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404DF-F1B6-444E-8BC4-1DD44CE3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0F37E-3AEF-4D0D-9C1E-08807B3E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4D510-A8BF-47C8-A9EE-FB5F06CB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7A45E-3EC3-4FB1-855F-041CF396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F58-F343-4374-96FE-5A7A5FC3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C098B-785A-4750-8010-DEEF0968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9FC7D-CA36-4A17-8B8A-04853587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AAE76-1009-4774-9A42-B75E4DFA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F2EDE-B6D1-40A9-B522-4BF7CF77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6C0F7-DE7B-4A4A-98DF-8278F906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834EA-B033-409C-9EBF-4E16D16D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87A46-6F9A-44B3-959A-F2892296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D6D85-FE3F-4F72-BEC1-FAE62654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AAA66-41F6-43DB-9C31-70940523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38B9B-8875-49CD-AD0D-3F727716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AA2-249B-46C4-8B2D-1CC656D7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29D9A-ED5D-462A-8943-B1479600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D174C-8390-4E66-A4CE-FE2A67B6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196F1-9FF8-4B93-B57C-7E18420F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5000D-016E-49F2-A48D-0042EB00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3C26D-1DEC-4C3C-A62A-579A1282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95BB8-3955-44E7-A411-401EF06D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95EEC-6627-4E50-8771-A25D1749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5E112-C546-4AC8-827C-723E63E7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440D2-197F-467B-9E59-82370806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17BFC-5D0A-412B-A8C6-23A5AACB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5CF3-259F-4FED-A99A-E60949D2FB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D5C1-C7CD-4697-8F74-8D8CFD502A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2A77-F219-4858-B66A-40153FE013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D0A4-98A6-4456-8399-A36246EA8A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73F4-A813-424F-A594-FF618BDD75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F98E-FB40-4AEA-A3D7-65862EC75D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076C-DEB9-4D26-84A1-96D9DD9F93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763D-2F04-45F4-A9A7-72AF8DCB93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498D-40EF-41CF-B0B4-9A22660121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941A-6A50-424D-B5C5-5504FDEAE9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0163-9592-4B42-A5D2-E154EAACBF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D8F5-4F46-4C0E-BF91-4C947B9895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7F04-30C0-474F-AD27-0F6DBD4978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4271-021B-4FBC-B164-5B3AC04249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5F12-726A-4292-971F-7B8BEF03E3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5878-597E-4F40-B111-AFF60F66D6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9BB6-7592-4AD1-AF63-4D79D41767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47C4-FA9C-4BC1-A524-35348E9B2A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E392-0721-4FAF-83C7-D0CA9255B8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8FCF-4325-4868-B0CF-69A170597E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2816-8BD8-456A-9063-16788007EC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DCAA-1F40-4E59-822F-F289FC0F6E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D2C4-D1EF-426D-AB4F-AF5FF125D9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E210-3E02-4BEE-A384-DBA4DFC537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5EB5-7D58-4FA6-8FD6-9D5A5266CC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C4A4-4D12-49AC-AB6F-0EAB88C363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7C4C-CE3B-4A45-894E-55E3B00516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7A4A-C22A-4084-8A08-C7DDF73B9A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051E-8DB1-40CB-B442-657D8194E3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0C2E-A59C-4B23-9FAB-64A6908C27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5BD1-48F3-4795-BA78-9EC3098AE2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091F-09BD-4C0A-ADFF-15791414EF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E3C9-942A-4781-9224-DAF41766E4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5BD2-1B3E-47B5-B270-39ED72B283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FB2A-D6A1-40F9-80BB-B4817EAC80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1AB2-8D6B-4507-97D0-CB15948179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0BEA-5A12-433C-8E4E-8102D40A87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098A-1958-47BD-AC7E-433C8D0414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8805-9872-468E-A318-55FE48D55A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4974-E72E-4B4A-B11E-B499F00A51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5B7F-D583-497B-A16D-3531C451FB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01D2-8C19-4823-9507-A6DD774954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538360" y="2971800"/>
            <a:ext cx="4067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219240" y="1090440"/>
            <a:ext cx="8705520" cy="46771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3348000" y="3500280"/>
            <a:ext cx="5796000" cy="4064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8642160" cy="4064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250920" y="4653000"/>
            <a:ext cx="8642160" cy="4064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250920" y="5272200"/>
            <a:ext cx="86421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204840" y="1762200"/>
            <a:ext cx="8732880" cy="33336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8785440" cy="4064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179280" y="2435400"/>
            <a:ext cx="8785440" cy="4060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114480" y="3011400"/>
            <a:ext cx="87850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14200" y="1338120"/>
            <a:ext cx="871380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68120" y="237960"/>
            <a:ext cx="8809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149400" y="755640"/>
            <a:ext cx="8847000" cy="58482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2"/>
          <a:stretch/>
        </p:blipFill>
        <p:spPr>
          <a:xfrm>
            <a:off x="1619280" y="2535120"/>
            <a:ext cx="2232000" cy="4064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3"/>
          <a:stretch/>
        </p:blipFill>
        <p:spPr>
          <a:xfrm>
            <a:off x="1908000" y="3745080"/>
            <a:ext cx="1872000" cy="4060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4"/>
          <a:stretch/>
        </p:blipFill>
        <p:spPr>
          <a:xfrm>
            <a:off x="2050920" y="4336920"/>
            <a:ext cx="5042160" cy="4064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5"/>
          <a:stretch/>
        </p:blipFill>
        <p:spPr>
          <a:xfrm>
            <a:off x="2843280" y="4911840"/>
            <a:ext cx="2305080" cy="406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6"/>
          <a:stretch/>
        </p:blipFill>
        <p:spPr>
          <a:xfrm>
            <a:off x="3174840" y="5516640"/>
            <a:ext cx="1454400" cy="406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7"/>
          <a:stretch/>
        </p:blipFill>
        <p:spPr>
          <a:xfrm>
            <a:off x="3952800" y="6107040"/>
            <a:ext cx="14544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176040" y="1057320"/>
            <a:ext cx="8790120" cy="47433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8359920" y="109548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250920" y="1714680"/>
            <a:ext cx="4608360" cy="4060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2195640" y="2319480"/>
            <a:ext cx="5616360" cy="4060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3527280" y="3500280"/>
            <a:ext cx="33498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200160" y="735120"/>
            <a:ext cx="8743680" cy="246672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2" descr=""/>
          <p:cNvPicPr/>
          <p:nvPr/>
        </p:nvPicPr>
        <p:blipFill>
          <a:blip r:embed="rId2"/>
          <a:stretch/>
        </p:blipFill>
        <p:spPr>
          <a:xfrm>
            <a:off x="237960" y="3201840"/>
            <a:ext cx="87058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376200" y="1766880"/>
            <a:ext cx="83898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157320" y="873000"/>
            <a:ext cx="88279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图片 1" descr=""/>
          <p:cNvPicPr/>
          <p:nvPr/>
        </p:nvPicPr>
        <p:blipFill>
          <a:blip r:embed="rId1"/>
          <a:stretch/>
        </p:blipFill>
        <p:spPr>
          <a:xfrm>
            <a:off x="200160" y="1071720"/>
            <a:ext cx="8743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31:2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